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691-A381-4101-9C36-8A22BB4C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AC9-F98E-4CEF-9D8B-A03B2072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2B2-7E48-409D-8801-BCB3AA2B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10E-0A10-4519-8C05-08997357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F4C-D212-406D-9051-DDAC67FF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0B0-F073-42BB-9611-04633943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772-63DD-4285-B3A2-0275B9B4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CAB-AE9C-4CBA-A165-E59B4A62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2AE-B5CE-4191-A7EB-DB2DCEFD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A0A-878F-41A3-8D8D-5397DEA1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C51-4E30-475C-A3C0-FF57574E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615-2EED-44FE-957A-03C4D657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EB20-E35A-45BA-A5DD-370C17F88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8 Svätého Pís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ácna zv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ého Písma vzácna zv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, Spasiteľ;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jem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ždy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zdáva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hvál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česť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ečný tvorstva cieľ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je spásnou nádej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hriechom zmáme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mocou slova liečiv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zdraví ranen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je Láska slúžia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eje novej j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nájde duša túžia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eskej priazne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ľuby svoje nezm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u pevnú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radosť túžbu prem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íde v sláve k n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12:48Z</dcterms:modified>
  <cp:revision>31</cp:revision>
  <dc:subject/>
  <dc:title>Je veľký náš Pán, on slávy je Kráľ Nech do všetkých strán  spev vrúcnych znie chvál.</dc:title>
</cp:coreProperties>
</file>